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5FE03-2884-4385-9759-8A7DF0037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020A0-BC0B-42DA-AC92-D5FE07F63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A2EC7-03E6-4A71-8ADB-9448DF619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20914-C004-4572-AA75-3B77A828C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410F5-0C7C-4F9C-8361-F66EC8BB0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799D6-FA5C-408A-BA7B-17AD623B7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B83F8-DE37-4EAA-9325-A104E4F38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B87ED-1214-4549-BDBF-57DCFF003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C0520-ACB3-4959-A06A-EC3B2C603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711BA-DC4A-4155-A15F-C173DCA86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D9135-0075-4AD1-BF9A-56AEA97F5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DAF0D-98C8-45A6-A1F3-94700E4C8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DAA3-4F54-4640-9FBC-A43DC50EE6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17</a:t>
            </a:r>
            <a:br>
              <a:rPr sz="3600"/>
            </a:br>
            <a:r>
              <a:rPr b="0" lang="en-US" sz="3600" spc="-1" strike="noStrike">
                <a:solidFill>
                  <a:srgbClr val="000000"/>
                </a:solidFill>
                <a:latin typeface="Times New Roman"/>
              </a:rPr>
              <a:t>PLANNING&amp; IMPLEMEN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anagers to be effective they must develop strategies to plan, direct and control 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effective managers of change, leaders must have more than good diagnostic skil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s must be able to adapt their leadership style to fit the demand.</a:t>
            </a:r>
            <a:endParaRPr b="0" lang="en-US" sz="2000" spc="-1" strike="noStrike">
              <a:solidFill>
                <a:srgbClr val="000000"/>
              </a:solidFill>
              <a:latin typeface="Times New Roman"/>
            </a:endParaRPr>
          </a:p>
        </p:txBody>
      </p:sp>
      <p:sp>
        <p:nvSpPr>
          <p:cNvPr id="4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ral Framework For Understanding Change</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gnosis(why change) this is the 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 and most important stag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must identify the need to chang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ques involved are: asking the right questions,sensing the environment of the organiza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ing effective patterns of observation and data collec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ways to process and interpret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reezing</a:t>
            </a:r>
            <a:endParaRPr b="0" lang="en-US" sz="2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cess by which the newly acquired behavior comes to be integrated as patterned behavior into the individual’s personality or ongoing significant emotional relationshi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nvironment must reinforce the new patter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e Field Analysis</a:t>
            </a:r>
            <a:endParaRPr b="0" lang="en-US" sz="2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echnique developed by  Kurt Lewin-in any situation there are both driving and restraining forces that influence any change that may occu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iving forces are those forces affecting a situation that are pushing in a particular dir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raining Forces are forces acting to restrain or decrease the driving forces.(apathy, hostility, and poor maintenance are examples of restraining forc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librium is the current level of productivity, can be raised or lowered by changes in the relationship between the driving and the restraining fo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in’s Psychological Safety</a:t>
            </a:r>
            <a:endParaRPr b="0" lang="en-US" sz="2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types of anxiety suggested by Schein a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xiety 1…is associated with inability or unwillingness to learn something new because it appears too difficult or disruptiv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xiety 2…is the induced anxiety of continuing to do something that will lead to fail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xiety 1 is caused by the fear of chang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xiety 2 must be greater than anxiety 1 for change to occu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se 1. Increase anxiety 2 (fear of not chang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se 2. Decrease anxiety 1(fear of chang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 to pg. 387-process of chang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Order And Second-Order Chances</a:t>
            </a:r>
            <a:endParaRPr b="0" lang="en-US" sz="2400" spc="-1" strike="noStrike">
              <a:solidFill>
                <a:srgbClr val="000000"/>
              </a:solidFill>
              <a:latin typeface="Times New Roman"/>
            </a:endParaRPr>
          </a:p>
        </p:txBody>
      </p:sp>
      <p:sp>
        <p:nvSpPr>
          <p:cNvPr id="69"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ous-First order change-change that occurs in a stable system that itself remains unchanged</a:t>
            </a:r>
            <a:endParaRPr b="0" lang="en-US" sz="1800" spc="-1" strike="noStrike">
              <a:solidFill>
                <a:srgbClr val="000000"/>
              </a:solidFill>
              <a:latin typeface="Times New Roman"/>
            </a:endParaRPr>
          </a:p>
          <a:p>
            <a:pPr marL="301680" indent="-301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ontinuous-second order change occurs when fundamental properties or states of the system are changed.</a:t>
            </a:r>
            <a:endParaRPr b="0" lang="en-US" sz="1800" spc="-1" strike="noStrike">
              <a:solidFill>
                <a:srgbClr val="000000"/>
              </a:solidFill>
              <a:latin typeface="Times New Roman"/>
            </a:endParaRPr>
          </a:p>
          <a:p>
            <a:pPr marL="301680" indent="-301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ation theories maintain that individual firms monitor their environments continuously and make purposeful adjustments to them.</a:t>
            </a:r>
            <a:endParaRPr b="0" lang="en-US" sz="1800" spc="-1" strike="noStrike">
              <a:solidFill>
                <a:srgbClr val="000000"/>
              </a:solidFill>
              <a:latin typeface="Times New Roman"/>
            </a:endParaRPr>
          </a:p>
          <a:p>
            <a:pPr marL="301680" indent="-301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mentalism refers to organizational changes in new products, structures, and processes</a:t>
            </a:r>
            <a:endParaRPr b="0" lang="en-US" sz="1800" spc="-1" strike="noStrike">
              <a:solidFill>
                <a:srgbClr val="000000"/>
              </a:solidFill>
              <a:latin typeface="Times New Roman"/>
            </a:endParaRPr>
          </a:p>
          <a:p>
            <a:pPr marL="301680" indent="-301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olution theories describe the first-order changes that industries experience.</a:t>
            </a:r>
            <a:endParaRPr b="0" lang="en-US" sz="1800" spc="-1" strike="noStrike">
              <a:solidFill>
                <a:srgbClr val="000000"/>
              </a:solidFill>
              <a:latin typeface="Times New Roman"/>
            </a:endParaRPr>
          </a:p>
          <a:p>
            <a:pPr marL="301680" indent="-301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ural selection mechanisms view the entry and exit firms in an industry as the primary method of evolution.</a:t>
            </a:r>
            <a:endParaRPr b="0" lang="en-US" sz="1800" spc="-1" strike="noStrike">
              <a:solidFill>
                <a:srgbClr val="000000"/>
              </a:solidFill>
              <a:latin typeface="Times New Roman"/>
            </a:endParaRPr>
          </a:p>
          <a:p>
            <a:pPr marL="301680" indent="-301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amorphis-second order change entire firm goes through a transformation</a:t>
            </a:r>
            <a:endParaRPr b="0" lang="en-US" sz="1800" spc="-1" strike="noStrike">
              <a:solidFill>
                <a:srgbClr val="000000"/>
              </a:solidFill>
              <a:latin typeface="Times New Roman"/>
            </a:endParaRPr>
          </a:p>
          <a:p>
            <a:pPr marL="301680" indent="-301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olutionary Change occurs when an entire industry is restructured and reconstituted during a brief period of quantum change.</a:t>
            </a:r>
            <a:endParaRPr b="0" lang="en-US" sz="2000" spc="-1" strike="noStrike">
              <a:solidFill>
                <a:srgbClr val="000000"/>
              </a:solidFill>
              <a:latin typeface="Times New Roman"/>
            </a:endParaRPr>
          </a:p>
          <a:p>
            <a:pPr marL="301680" indent="-301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rganizational changes you initiate as a leader will occur on a level of first-order chan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s of Change</a:t>
            </a:r>
            <a:endParaRPr b="0" lang="en-US" sz="2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four levels of 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nowledge –easiest change to man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itudinal Changes-Emotionally charged in a positive or negative wa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 Behavior-significantly more difficult and time consum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or organizational performance changes may be very time consuming proc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ve Change</a:t>
            </a:r>
            <a:endParaRPr b="0" lang="en-US" sz="2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ycle is implemented when new knowledge is made available to the individual or gro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ve Change</a:t>
            </a:r>
            <a:endParaRPr b="0" lang="en-US" sz="2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cycle begins when change is imposed on the total organization by some external force, such as higher management, the community or new la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ases when change is forced, the new behavior sometimes creates the kind of knowledge that develops commitment to the change and the change begins to resemble participative change as it reinforces individual and group behav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 Strategy For Change</a:t>
            </a:r>
            <a:endParaRPr b="0" lang="en-US" sz="2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best strategy for implementing change. Effective change agents are identified as those who can adapt their strategies to the demands of their unique environ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400" spc="-1" strike="noStrike">
                <a:solidFill>
                  <a:srgbClr val="000000"/>
                </a:solidFill>
                <a:latin typeface="Times New Roman"/>
              </a:rPr>
              <a:t>Advantages and Disadvantages of Change Cycles</a:t>
            </a:r>
            <a:endParaRPr b="0" lang="en-US" sz="2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gnificant advantage of the participative change cycle is that once the change is accepted, it tends to be long-last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is also an advantage of participative 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advantage of participative change is that it tends to be slow and evolutionary-it may take years to implement a significant 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disadvantage is that it tends to be volatile.Often resulting in animosity, hostility, and overt and covert behavior to undermine overthr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Process-Recommended Action</a:t>
            </a:r>
            <a:endParaRPr b="0" lang="en-US" sz="2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less there is  a high probability that a desired consequence will occur and that the consequence will be the same as the conditions that would exist if the problem were not present, then you have not solved the problem or changed the situ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ltimate solution to a problem (the change effort)may not be possible overnight, and, therefore, interim goals must be set along the path to the final goal (the solving of the probl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nosis Cont’d</a:t>
            </a:r>
            <a:endParaRPr b="0" lang="en-US" sz="2400" spc="-1" strike="noStrike">
              <a:solidFill>
                <a:srgbClr val="000000"/>
              </a:solidFill>
              <a:latin typeface="Times New Roman"/>
            </a:endParaRPr>
          </a:p>
        </p:txBody>
      </p:sp>
      <p:sp>
        <p:nvSpPr>
          <p:cNvPr id="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s should attempt to find out(1) what is actually happening now in a particular situation (2)what is likely to be happening(3) what would people like to see happening in the situation (4) what are the blocks, or restraints, stopping movement from the actual to the ideal </a:t>
            </a:r>
            <a:endParaRPr b="0" lang="en-US" sz="2000" spc="-1" strike="noStrike">
              <a:solidFill>
                <a:srgbClr val="000000"/>
              </a:solidFill>
              <a:latin typeface="Times New Roman"/>
            </a:endParaRPr>
          </a:p>
        </p:txBody>
      </p:sp>
      <p:sp>
        <p:nvSpPr>
          <p:cNvPr id="4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hree steps in the diagnostic proces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ication of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of View</a:t>
            </a:r>
            <a:endParaRPr b="0" lang="en-US" sz="2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should know threw whose eyes you will be observing the situ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 at the situation from the point of view of the people who would be affected by the 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clear about your frame of reference from the beginning</a:t>
            </a:r>
            <a:endParaRPr b="0" lang="en-US" sz="2000" spc="-1" strike="noStrike">
              <a:solidFill>
                <a:srgbClr val="000000"/>
              </a:solidFill>
              <a:latin typeface="Times New Roman"/>
            </a:endParaRPr>
          </a:p>
        </p:txBody>
      </p:sp>
      <p:sp>
        <p:nvSpPr>
          <p:cNvPr id="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2400" spc="-1" strike="noStrike">
                <a:solidFill>
                  <a:srgbClr val="000000"/>
                </a:solidFill>
                <a:latin typeface="Times New Roman"/>
              </a:rPr>
              <a:t>Identification of Problem(s)</a:t>
            </a:r>
            <a:br>
              <a:rPr sz="2400"/>
            </a:br>
            <a:endParaRPr b="0" lang="en-US" sz="2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blem in a situation exist when  there is a discrepancy between what is actually happening and what you would like to see happ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efforts involve attempting to reduce discrepancies between the real and the ide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potential areas for discrepancy-end result variables and intervening variab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theory is just organized common sen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 to pg. 379-questions to help you determine what is happening in your situation and is there need for chan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An Outgrowth of Problem Identificatin</a:t>
            </a:r>
            <a:endParaRPr b="0" lang="en-US" sz="2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a problem has been identified, the goal of analysis is to determine why the problem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ine casual variable-the independent variables that can be altered or changed by the organization and its management such as leadership or management style, organizational structure, and organizational objectiv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 to pg. 380-questions to help determine the discrepan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Getting From Here to There</a:t>
            </a:r>
            <a:endParaRPr b="0" lang="en-US" sz="2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 process involves- identifying alternative solutions and appropriate implementation strategies, anticipating the probable consequences of each of the alternative strategies, and choosing a specific strategy and implementing it.</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gnostic data is changed into goals and plans,strategies, and procedure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stions such as : How can change be effected in a work group or organization</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it be received?</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analysis is completed, the next step is to determine alternative solutions to the problems and determine appropriate implementation strategie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approaches are helpful in the implementation process: Lewin’s change process and force field analysis and Schien’s idea of psychological safety.</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win’s Change Process</a:t>
            </a:r>
            <a:endParaRPr b="0" lang="en-US" sz="2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phases of the change process: unfreezing, changing, and refreezi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freezing</a:t>
            </a:r>
            <a:endParaRPr b="0" lang="en-US" sz="2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im is to motivate and make the individual or the group ready to chang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wing out process in which the forces acting on individuals are rearranged so they see the need for chang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elements are present when drastic unfreezing is necessar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dividuals being changed are physically removed from the accustomed routines, sources of information,and social relationship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ocial supports are undermined and destroye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dividuals being changed are demeaned and humiliated so that they will see their old attiudes or behavior as unworthy and motivated to chang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eaking down of folkways, customs, and traditions(the old way of doing thin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ication: occurs when one or models are provided in the environ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ization: occurs when individuals are placed in a new behavior patterns not only because they are necessary for survival, but new high-strength needs are induced by coping behavi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iance: another mechanism for inducing change.It occurs when an individual is forced to change by the direct manipulation of rewards and punishment by someone in a power posi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7T17:26:07Z</dcterms:created>
  <dc:creator>WSFCS Standard</dc:creator>
  <dc:description/>
  <dc:language>en-US</dc:language>
  <cp:lastModifiedBy>AEURY</cp:lastModifiedBy>
  <dcterms:modified xsi:type="dcterms:W3CDTF">2006-09-05T17:01:46Z</dcterms:modified>
  <cp:revision>4</cp:revision>
  <dc:subject/>
  <dc:title>CHAPTER 17 PLANNING&amp; IMPLEMENTING</dc:title>
</cp:coreProperties>
</file>